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D1A1-3A20-4939-9B79-6DF281A2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5932-0F4B-4BA4-9D59-1A24E692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27BB-9AD4-4789-9D65-4960D6F8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15B4-7A8E-4DA8-AD5A-3CEBD57A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0748-F41E-4384-BD5F-38AEF8FD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8AB-3D77-421D-9447-908BA04B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37EE-B976-4050-9C6D-C2DF5DD5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2D5F-1D8A-4076-8C6D-92C70E78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50A6-6A8D-43B0-80E6-E830DE22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2BB8-4A0E-4831-BED2-D1DA0B5D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25A2-C9AF-4EBD-913D-33242641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273F-8968-48CB-87B5-8123633C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46D5-A319-4E62-A3D4-B2D24B1A57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0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9" name="Group 8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10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3" name="TextBox 13"/>
          <p:cNvSpPr/>
          <p:nvPr/>
        </p:nvSpPr>
        <p:spPr>
          <a:xfrm>
            <a:off x="1373040" y="944640"/>
            <a:ext cx="947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Text Placeholder 6"/>
          <p:cNvSpPr/>
          <p:nvPr/>
        </p:nvSpPr>
        <p:spPr>
          <a:xfrm>
            <a:off x="2600280" y="1454040"/>
            <a:ext cx="69915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5" name="" descr=""/>
          <p:cNvPicPr/>
          <p:nvPr/>
        </p:nvPicPr>
        <p:blipFill>
          <a:blip r:embed="rId1"/>
          <a:stretch/>
        </p:blipFill>
        <p:spPr>
          <a:xfrm>
            <a:off x="-360" y="2006640"/>
            <a:ext cx="12192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749"/>
          <p:cNvSpPr/>
          <p:nvPr/>
        </p:nvSpPr>
        <p:spPr>
          <a:xfrm>
            <a:off x="10599840" y="5380200"/>
            <a:ext cx="288720" cy="174600"/>
          </a:xfrm>
          <a:custGeom>
            <a:avLst/>
            <a:gdLst>
              <a:gd name="textAreaLeft" fmla="*/ 0 w 288720"/>
              <a:gd name="textAreaRight" fmla="*/ 289080 w 288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750"/>
          <p:cNvSpPr/>
          <p:nvPr/>
        </p:nvSpPr>
        <p:spPr>
          <a:xfrm>
            <a:off x="10675800" y="4992840"/>
            <a:ext cx="228600" cy="54000"/>
          </a:xfrm>
          <a:custGeom>
            <a:avLst/>
            <a:gdLst>
              <a:gd name="textAreaLeft" fmla="*/ 0 w 228600"/>
              <a:gd name="textAreaRight" fmla="*/ 228960 w 228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759"/>
          <p:cNvSpPr/>
          <p:nvPr/>
        </p:nvSpPr>
        <p:spPr>
          <a:xfrm>
            <a:off x="9702720" y="5324400"/>
            <a:ext cx="108000" cy="2462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761"/>
          <p:cNvSpPr/>
          <p:nvPr/>
        </p:nvSpPr>
        <p:spPr>
          <a:xfrm>
            <a:off x="8601120" y="5324400"/>
            <a:ext cx="288720" cy="292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763"/>
          <p:cNvSpPr/>
          <p:nvPr/>
        </p:nvSpPr>
        <p:spPr>
          <a:xfrm>
            <a:off x="7632720" y="533556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771"/>
          <p:cNvSpPr/>
          <p:nvPr/>
        </p:nvSpPr>
        <p:spPr>
          <a:xfrm>
            <a:off x="9613800" y="4851360"/>
            <a:ext cx="290520" cy="2570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773"/>
          <p:cNvSpPr/>
          <p:nvPr/>
        </p:nvSpPr>
        <p:spPr>
          <a:xfrm>
            <a:off x="8601120" y="485136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775"/>
          <p:cNvSpPr/>
          <p:nvPr/>
        </p:nvSpPr>
        <p:spPr>
          <a:xfrm>
            <a:off x="7586640" y="485136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776"/>
          <p:cNvSpPr/>
          <p:nvPr/>
        </p:nvSpPr>
        <p:spPr>
          <a:xfrm>
            <a:off x="10578960" y="178452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778"/>
          <p:cNvSpPr/>
          <p:nvPr/>
        </p:nvSpPr>
        <p:spPr>
          <a:xfrm>
            <a:off x="9564840" y="178452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780"/>
          <p:cNvSpPr/>
          <p:nvPr/>
        </p:nvSpPr>
        <p:spPr>
          <a:xfrm>
            <a:off x="8553600" y="178452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782"/>
          <p:cNvSpPr/>
          <p:nvPr/>
        </p:nvSpPr>
        <p:spPr>
          <a:xfrm>
            <a:off x="7540560" y="178452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hape 4788"/>
          <p:cNvSpPr/>
          <p:nvPr/>
        </p:nvSpPr>
        <p:spPr>
          <a:xfrm>
            <a:off x="10580760" y="1306440"/>
            <a:ext cx="282600" cy="2509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hape 4790"/>
          <p:cNvSpPr/>
          <p:nvPr/>
        </p:nvSpPr>
        <p:spPr>
          <a:xfrm>
            <a:off x="9570960" y="1306440"/>
            <a:ext cx="279360" cy="2509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Shape 4792"/>
          <p:cNvSpPr/>
          <p:nvPr/>
        </p:nvSpPr>
        <p:spPr>
          <a:xfrm>
            <a:off x="8553600" y="1333440"/>
            <a:ext cx="290520" cy="179280"/>
          </a:xfrm>
          <a:custGeom>
            <a:avLst/>
            <a:gdLst>
              <a:gd name="textAreaLeft" fmla="*/ 0 w 290520"/>
              <a:gd name="textAreaRight" fmla="*/ 290880 w 290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hape 4794"/>
          <p:cNvSpPr/>
          <p:nvPr/>
        </p:nvSpPr>
        <p:spPr>
          <a:xfrm>
            <a:off x="7607160" y="129384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hape 4796"/>
          <p:cNvSpPr/>
          <p:nvPr/>
        </p:nvSpPr>
        <p:spPr>
          <a:xfrm>
            <a:off x="6622920" y="534816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Shape 4798"/>
          <p:cNvSpPr/>
          <p:nvPr/>
        </p:nvSpPr>
        <p:spPr>
          <a:xfrm>
            <a:off x="5603760" y="5357880"/>
            <a:ext cx="235080" cy="218880"/>
          </a:xfrm>
          <a:custGeom>
            <a:avLst/>
            <a:gdLst>
              <a:gd name="textAreaLeft" fmla="*/ 0 w 235080"/>
              <a:gd name="textAreaRight" fmla="*/ 235440 w 2350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hape 4800"/>
          <p:cNvSpPr/>
          <p:nvPr/>
        </p:nvSpPr>
        <p:spPr>
          <a:xfrm>
            <a:off x="4564080" y="531972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hape 4802"/>
          <p:cNvSpPr/>
          <p:nvPr/>
        </p:nvSpPr>
        <p:spPr>
          <a:xfrm>
            <a:off x="3562200" y="5319720"/>
            <a:ext cx="279720" cy="291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Shape 4804"/>
          <p:cNvSpPr/>
          <p:nvPr/>
        </p:nvSpPr>
        <p:spPr>
          <a:xfrm>
            <a:off x="2552760" y="531828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hape 4806"/>
          <p:cNvSpPr/>
          <p:nvPr/>
        </p:nvSpPr>
        <p:spPr>
          <a:xfrm>
            <a:off x="1536840" y="5319720"/>
            <a:ext cx="263520" cy="291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hape 4808"/>
          <p:cNvSpPr/>
          <p:nvPr/>
        </p:nvSpPr>
        <p:spPr>
          <a:xfrm>
            <a:off x="6607080" y="4815000"/>
            <a:ext cx="252360" cy="288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Shape 4810"/>
          <p:cNvSpPr/>
          <p:nvPr/>
        </p:nvSpPr>
        <p:spPr>
          <a:xfrm>
            <a:off x="5661000" y="489276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hape 4812"/>
          <p:cNvSpPr/>
          <p:nvPr/>
        </p:nvSpPr>
        <p:spPr>
          <a:xfrm>
            <a:off x="4654440" y="489888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Shape 4814"/>
          <p:cNvSpPr/>
          <p:nvPr/>
        </p:nvSpPr>
        <p:spPr>
          <a:xfrm>
            <a:off x="3611520" y="489888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Shape 4816"/>
          <p:cNvSpPr/>
          <p:nvPr/>
        </p:nvSpPr>
        <p:spPr>
          <a:xfrm>
            <a:off x="2620800" y="48974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hape 4818"/>
          <p:cNvSpPr/>
          <p:nvPr/>
        </p:nvSpPr>
        <p:spPr>
          <a:xfrm>
            <a:off x="1604880" y="488628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Shape 4856"/>
          <p:cNvSpPr/>
          <p:nvPr/>
        </p:nvSpPr>
        <p:spPr>
          <a:xfrm>
            <a:off x="6586560" y="178920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Shape 4858"/>
          <p:cNvSpPr/>
          <p:nvPr/>
        </p:nvSpPr>
        <p:spPr>
          <a:xfrm>
            <a:off x="5576760" y="178920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hape 4860"/>
          <p:cNvSpPr/>
          <p:nvPr/>
        </p:nvSpPr>
        <p:spPr>
          <a:xfrm>
            <a:off x="4564080" y="178920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Shape 4862"/>
          <p:cNvSpPr/>
          <p:nvPr/>
        </p:nvSpPr>
        <p:spPr>
          <a:xfrm>
            <a:off x="3549600" y="178920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Shape 4864"/>
          <p:cNvSpPr/>
          <p:nvPr/>
        </p:nvSpPr>
        <p:spPr>
          <a:xfrm>
            <a:off x="2538360" y="178920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hape 4866"/>
          <p:cNvSpPr/>
          <p:nvPr/>
        </p:nvSpPr>
        <p:spPr>
          <a:xfrm>
            <a:off x="1523880" y="178920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Shape 4868"/>
          <p:cNvSpPr/>
          <p:nvPr/>
        </p:nvSpPr>
        <p:spPr>
          <a:xfrm>
            <a:off x="6586560" y="128124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Shape 4870"/>
          <p:cNvSpPr/>
          <p:nvPr/>
        </p:nvSpPr>
        <p:spPr>
          <a:xfrm>
            <a:off x="5610240" y="128124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hape 4872"/>
          <p:cNvSpPr/>
          <p:nvPr/>
        </p:nvSpPr>
        <p:spPr>
          <a:xfrm>
            <a:off x="4599000" y="128124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Shape 4874"/>
          <p:cNvSpPr/>
          <p:nvPr/>
        </p:nvSpPr>
        <p:spPr>
          <a:xfrm>
            <a:off x="3549600" y="132084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Shape 4876"/>
          <p:cNvSpPr/>
          <p:nvPr/>
        </p:nvSpPr>
        <p:spPr>
          <a:xfrm>
            <a:off x="2538360" y="1320840"/>
            <a:ext cx="289080" cy="236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hape 4878"/>
          <p:cNvSpPr/>
          <p:nvPr/>
        </p:nvSpPr>
        <p:spPr>
          <a:xfrm>
            <a:off x="1523880" y="132084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0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21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4" name="Text Placeholder 6"/>
          <p:cNvSpPr/>
          <p:nvPr/>
        </p:nvSpPr>
        <p:spPr>
          <a:xfrm>
            <a:off x="7721640" y="2992320"/>
            <a:ext cx="3759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 Placeholder 6"/>
          <p:cNvSpPr/>
          <p:nvPr/>
        </p:nvSpPr>
        <p:spPr>
          <a:xfrm>
            <a:off x="7759800" y="522144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Straight Connector 13"/>
          <p:cNvSpPr/>
          <p:nvPr/>
        </p:nvSpPr>
        <p:spPr>
          <a:xfrm>
            <a:off x="7848720" y="5478480"/>
            <a:ext cx="34290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14"/>
          <p:cNvSpPr/>
          <p:nvPr/>
        </p:nvSpPr>
        <p:spPr>
          <a:xfrm>
            <a:off x="3914640" y="1424160"/>
            <a:ext cx="431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yiv*Type Sans"/>
                <a:ea typeface="Vollkorn"/>
              </a:rPr>
              <a:t>BEAUTIFUL </a:t>
            </a:r>
            <a:r>
              <a:rPr b="1" lang="en-US" sz="44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8" name="Picture 15" descr=""/>
          <p:cNvPicPr/>
          <p:nvPr/>
        </p:nvPicPr>
        <p:blipFill>
          <a:blip r:embed="rId1"/>
          <a:stretch/>
        </p:blipFill>
        <p:spPr>
          <a:xfrm>
            <a:off x="5516640" y="2962440"/>
            <a:ext cx="1824120" cy="1047600"/>
          </a:xfrm>
          <a:prstGeom prst="rect">
            <a:avLst/>
          </a:prstGeom>
          <a:ln w="0">
            <a:noFill/>
          </a:ln>
        </p:spPr>
      </p:pic>
      <p:sp>
        <p:nvSpPr>
          <p:cNvPr id="1129" name="TextBox 18"/>
          <p:cNvSpPr/>
          <p:nvPr/>
        </p:nvSpPr>
        <p:spPr>
          <a:xfrm>
            <a:off x="4834080" y="6483240"/>
            <a:ext cx="4525920" cy="374760"/>
          </a:xfrm>
          <a:custGeom>
            <a:avLst/>
            <a:gdLst/>
            <a:ahLst/>
            <a:rect l="l" t="t" r="r" b="b"/>
            <a:pathLst>
              <a:path w="4525981" h="374098">
                <a:moveTo>
                  <a:pt x="1563706" y="146304"/>
                </a:moveTo>
                <a:lnTo>
                  <a:pt x="1508080" y="332994"/>
                </a:lnTo>
                <a:lnTo>
                  <a:pt x="1621618" y="332994"/>
                </a:lnTo>
                <a:lnTo>
                  <a:pt x="1566754" y="146304"/>
                </a:lnTo>
                <a:lnTo>
                  <a:pt x="1563706" y="146304"/>
                </a:lnTo>
                <a:close/>
                <a:moveTo>
                  <a:pt x="230206" y="146304"/>
                </a:moveTo>
                <a:lnTo>
                  <a:pt x="174580" y="332994"/>
                </a:lnTo>
                <a:lnTo>
                  <a:pt x="288118" y="332994"/>
                </a:lnTo>
                <a:lnTo>
                  <a:pt x="233254" y="146304"/>
                </a:lnTo>
                <a:lnTo>
                  <a:pt x="230206" y="146304"/>
                </a:lnTo>
                <a:close/>
                <a:moveTo>
                  <a:pt x="4004011" y="0"/>
                </a:moveTo>
                <a:lnTo>
                  <a:pt x="4151077" y="0"/>
                </a:lnTo>
                <a:lnTo>
                  <a:pt x="4371295" y="258318"/>
                </a:lnTo>
                <a:lnTo>
                  <a:pt x="4371295" y="0"/>
                </a:lnTo>
                <a:lnTo>
                  <a:pt x="4525981" y="0"/>
                </a:lnTo>
                <a:lnTo>
                  <a:pt x="4525981" y="374098"/>
                </a:lnTo>
                <a:lnTo>
                  <a:pt x="4248988" y="374098"/>
                </a:lnTo>
                <a:lnTo>
                  <a:pt x="4158697" y="269748"/>
                </a:lnTo>
                <a:lnTo>
                  <a:pt x="4158697" y="374098"/>
                </a:lnTo>
                <a:lnTo>
                  <a:pt x="4004011" y="374098"/>
                </a:lnTo>
                <a:lnTo>
                  <a:pt x="4004011" y="0"/>
                </a:lnTo>
                <a:close/>
                <a:moveTo>
                  <a:pt x="3375361" y="0"/>
                </a:moveTo>
                <a:lnTo>
                  <a:pt x="3828751" y="0"/>
                </a:lnTo>
                <a:lnTo>
                  <a:pt x="3828751" y="125730"/>
                </a:lnTo>
                <a:lnTo>
                  <a:pt x="3543763" y="125730"/>
                </a:lnTo>
                <a:lnTo>
                  <a:pt x="3543763" y="198120"/>
                </a:lnTo>
                <a:lnTo>
                  <a:pt x="3787603" y="198120"/>
                </a:lnTo>
                <a:lnTo>
                  <a:pt x="3787603" y="318516"/>
                </a:lnTo>
                <a:lnTo>
                  <a:pt x="3543763" y="318516"/>
                </a:lnTo>
                <a:lnTo>
                  <a:pt x="3543763" y="374098"/>
                </a:lnTo>
                <a:lnTo>
                  <a:pt x="3375361" y="374098"/>
                </a:lnTo>
                <a:lnTo>
                  <a:pt x="3375361" y="0"/>
                </a:lnTo>
                <a:close/>
                <a:moveTo>
                  <a:pt x="2564593" y="0"/>
                </a:moveTo>
                <a:lnTo>
                  <a:pt x="2802337" y="0"/>
                </a:lnTo>
                <a:lnTo>
                  <a:pt x="2881585" y="302514"/>
                </a:lnTo>
                <a:lnTo>
                  <a:pt x="2884633" y="302514"/>
                </a:lnTo>
                <a:lnTo>
                  <a:pt x="2963119" y="0"/>
                </a:lnTo>
                <a:lnTo>
                  <a:pt x="3192481" y="0"/>
                </a:lnTo>
                <a:lnTo>
                  <a:pt x="3192481" y="374098"/>
                </a:lnTo>
                <a:lnTo>
                  <a:pt x="3025603" y="374098"/>
                </a:lnTo>
                <a:lnTo>
                  <a:pt x="3025603" y="335280"/>
                </a:lnTo>
                <a:cubicBezTo>
                  <a:pt x="3025603" y="311912"/>
                  <a:pt x="3026492" y="287909"/>
                  <a:pt x="3028270" y="263271"/>
                </a:cubicBezTo>
                <a:cubicBezTo>
                  <a:pt x="3030048" y="238633"/>
                  <a:pt x="3031953" y="217932"/>
                  <a:pt x="3033985" y="201168"/>
                </a:cubicBezTo>
                <a:cubicBezTo>
                  <a:pt x="3036017" y="184404"/>
                  <a:pt x="3037287" y="173736"/>
                  <a:pt x="3037795" y="169164"/>
                </a:cubicBezTo>
                <a:lnTo>
                  <a:pt x="3034747" y="169164"/>
                </a:lnTo>
                <a:lnTo>
                  <a:pt x="2978896" y="374098"/>
                </a:lnTo>
                <a:lnTo>
                  <a:pt x="2764813" y="374098"/>
                </a:lnTo>
                <a:lnTo>
                  <a:pt x="2708611" y="169926"/>
                </a:lnTo>
                <a:lnTo>
                  <a:pt x="2705563" y="169926"/>
                </a:lnTo>
                <a:cubicBezTo>
                  <a:pt x="2706071" y="174498"/>
                  <a:pt x="2707468" y="185039"/>
                  <a:pt x="2709754" y="201549"/>
                </a:cubicBezTo>
                <a:cubicBezTo>
                  <a:pt x="2712040" y="218059"/>
                  <a:pt x="2714199" y="238633"/>
                  <a:pt x="2716231" y="263271"/>
                </a:cubicBezTo>
                <a:cubicBezTo>
                  <a:pt x="2718263" y="287909"/>
                  <a:pt x="2719279" y="311912"/>
                  <a:pt x="2719279" y="335280"/>
                </a:cubicBezTo>
                <a:lnTo>
                  <a:pt x="2719279" y="374098"/>
                </a:lnTo>
                <a:lnTo>
                  <a:pt x="2564593" y="374098"/>
                </a:lnTo>
                <a:lnTo>
                  <a:pt x="2564593" y="0"/>
                </a:lnTo>
                <a:close/>
                <a:moveTo>
                  <a:pt x="1994236" y="0"/>
                </a:moveTo>
                <a:lnTo>
                  <a:pt x="2162638" y="0"/>
                </a:lnTo>
                <a:lnTo>
                  <a:pt x="2162638" y="374098"/>
                </a:lnTo>
                <a:lnTo>
                  <a:pt x="1994236" y="374098"/>
                </a:lnTo>
                <a:lnTo>
                  <a:pt x="1994236" y="0"/>
                </a:lnTo>
                <a:close/>
                <a:moveTo>
                  <a:pt x="1469980" y="0"/>
                </a:moveTo>
                <a:lnTo>
                  <a:pt x="1665814" y="0"/>
                </a:lnTo>
                <a:lnTo>
                  <a:pt x="1802295" y="374098"/>
                </a:lnTo>
                <a:lnTo>
                  <a:pt x="1333500" y="374098"/>
                </a:lnTo>
                <a:lnTo>
                  <a:pt x="1469980" y="0"/>
                </a:lnTo>
                <a:close/>
                <a:moveTo>
                  <a:pt x="617302" y="0"/>
                </a:moveTo>
                <a:lnTo>
                  <a:pt x="797134" y="0"/>
                </a:lnTo>
                <a:lnTo>
                  <a:pt x="902290" y="350520"/>
                </a:lnTo>
                <a:lnTo>
                  <a:pt x="905338" y="350520"/>
                </a:lnTo>
                <a:lnTo>
                  <a:pt x="1011256" y="0"/>
                </a:lnTo>
                <a:lnTo>
                  <a:pt x="1183468" y="0"/>
                </a:lnTo>
                <a:lnTo>
                  <a:pt x="1051338" y="374098"/>
                </a:lnTo>
                <a:lnTo>
                  <a:pt x="749977" y="374098"/>
                </a:lnTo>
                <a:lnTo>
                  <a:pt x="617302" y="0"/>
                </a:lnTo>
                <a:close/>
                <a:moveTo>
                  <a:pt x="136480" y="0"/>
                </a:moveTo>
                <a:lnTo>
                  <a:pt x="332314" y="0"/>
                </a:lnTo>
                <a:lnTo>
                  <a:pt x="468795" y="374098"/>
                </a:lnTo>
                <a:lnTo>
                  <a:pt x="0" y="374098"/>
                </a:lnTo>
                <a:lnTo>
                  <a:pt x="136480" y="0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2"/>
          <a:stretch/>
        </p:blipFill>
        <p:spPr>
          <a:xfrm>
            <a:off x="1066680" y="1282680"/>
            <a:ext cx="35942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5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36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9" name="TextBox 11"/>
          <p:cNvSpPr/>
          <p:nvPr/>
        </p:nvSpPr>
        <p:spPr>
          <a:xfrm>
            <a:off x="2309760" y="1066680"/>
            <a:ext cx="75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12"/>
          <p:cNvSpPr/>
          <p:nvPr/>
        </p:nvSpPr>
        <p:spPr>
          <a:xfrm>
            <a:off x="2309760" y="1868400"/>
            <a:ext cx="75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 Placeholder 6"/>
          <p:cNvSpPr/>
          <p:nvPr/>
        </p:nvSpPr>
        <p:spPr>
          <a:xfrm>
            <a:off x="3232080" y="5278320"/>
            <a:ext cx="575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2" name="" descr=""/>
          <p:cNvPicPr/>
          <p:nvPr/>
        </p:nvPicPr>
        <p:blipFill>
          <a:blip r:embed="rId1"/>
          <a:stretch/>
        </p:blipFill>
        <p:spPr>
          <a:xfrm>
            <a:off x="3219120" y="2006280"/>
            <a:ext cx="5753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7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48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51" name="Picture 11" descr=""/>
          <p:cNvPicPr/>
          <p:nvPr/>
        </p:nvPicPr>
        <p:blipFill>
          <a:blip r:embed="rId1"/>
          <a:stretch/>
        </p:blipFill>
        <p:spPr>
          <a:xfrm>
            <a:off x="654120" y="4292640"/>
            <a:ext cx="1703160" cy="977760"/>
          </a:xfrm>
          <a:prstGeom prst="rect">
            <a:avLst/>
          </a:prstGeom>
          <a:ln w="0">
            <a:noFill/>
          </a:ln>
        </p:spPr>
      </p:pic>
      <p:sp>
        <p:nvSpPr>
          <p:cNvPr id="1152" name="TextBox 12"/>
          <p:cNvSpPr/>
          <p:nvPr/>
        </p:nvSpPr>
        <p:spPr>
          <a:xfrm rot="16200000">
            <a:off x="9686160" y="3255120"/>
            <a:ext cx="4556160" cy="455760"/>
          </a:xfrm>
          <a:custGeom>
            <a:avLst/>
            <a:gdLst/>
            <a:ahLst/>
            <a:rect l="l" t="t" r="r" b="b"/>
            <a:pathLst>
              <a:path w="4555552" h="455153">
                <a:moveTo>
                  <a:pt x="317689" y="332994"/>
                </a:moveTo>
                <a:lnTo>
                  <a:pt x="262825" y="146304"/>
                </a:lnTo>
                <a:lnTo>
                  <a:pt x="259777" y="146304"/>
                </a:lnTo>
                <a:lnTo>
                  <a:pt x="204151" y="332994"/>
                </a:lnTo>
                <a:lnTo>
                  <a:pt x="317689" y="332994"/>
                </a:lnTo>
                <a:close/>
                <a:moveTo>
                  <a:pt x="527937" y="455153"/>
                </a:moveTo>
                <a:lnTo>
                  <a:pt x="354180" y="455153"/>
                </a:lnTo>
                <a:lnTo>
                  <a:pt x="352741" y="450342"/>
                </a:lnTo>
                <a:lnTo>
                  <a:pt x="169099" y="450342"/>
                </a:lnTo>
                <a:lnTo>
                  <a:pt x="167661" y="455153"/>
                </a:lnTo>
                <a:lnTo>
                  <a:pt x="0" y="455153"/>
                </a:lnTo>
                <a:lnTo>
                  <a:pt x="166051" y="0"/>
                </a:lnTo>
                <a:lnTo>
                  <a:pt x="361885" y="0"/>
                </a:lnTo>
                <a:lnTo>
                  <a:pt x="527937" y="455153"/>
                </a:lnTo>
                <a:close/>
                <a:moveTo>
                  <a:pt x="1213039" y="0"/>
                </a:moveTo>
                <a:lnTo>
                  <a:pt x="1052280" y="455153"/>
                </a:lnTo>
                <a:lnTo>
                  <a:pt x="808294" y="455153"/>
                </a:lnTo>
                <a:lnTo>
                  <a:pt x="646873" y="0"/>
                </a:lnTo>
                <a:lnTo>
                  <a:pt x="826705" y="0"/>
                </a:lnTo>
                <a:lnTo>
                  <a:pt x="931861" y="350520"/>
                </a:lnTo>
                <a:lnTo>
                  <a:pt x="934909" y="350520"/>
                </a:lnTo>
                <a:lnTo>
                  <a:pt x="1040827" y="0"/>
                </a:lnTo>
                <a:lnTo>
                  <a:pt x="1213039" y="0"/>
                </a:lnTo>
                <a:close/>
                <a:moveTo>
                  <a:pt x="1651189" y="332994"/>
                </a:moveTo>
                <a:lnTo>
                  <a:pt x="1596325" y="146304"/>
                </a:lnTo>
                <a:lnTo>
                  <a:pt x="1593277" y="146304"/>
                </a:lnTo>
                <a:lnTo>
                  <a:pt x="1537651" y="332994"/>
                </a:lnTo>
                <a:lnTo>
                  <a:pt x="1651189" y="332994"/>
                </a:lnTo>
                <a:close/>
                <a:moveTo>
                  <a:pt x="1861437" y="455153"/>
                </a:moveTo>
                <a:lnTo>
                  <a:pt x="1687679" y="455153"/>
                </a:lnTo>
                <a:lnTo>
                  <a:pt x="1686241" y="450342"/>
                </a:lnTo>
                <a:lnTo>
                  <a:pt x="1502599" y="450342"/>
                </a:lnTo>
                <a:lnTo>
                  <a:pt x="1501161" y="455153"/>
                </a:lnTo>
                <a:lnTo>
                  <a:pt x="1333500" y="455153"/>
                </a:lnTo>
                <a:lnTo>
                  <a:pt x="1499551" y="0"/>
                </a:lnTo>
                <a:lnTo>
                  <a:pt x="1695385" y="0"/>
                </a:lnTo>
                <a:lnTo>
                  <a:pt x="1861437" y="455153"/>
                </a:lnTo>
                <a:close/>
                <a:moveTo>
                  <a:pt x="2461195" y="390144"/>
                </a:moveTo>
                <a:lnTo>
                  <a:pt x="2461195" y="455153"/>
                </a:lnTo>
                <a:lnTo>
                  <a:pt x="2023807" y="455153"/>
                </a:lnTo>
                <a:lnTo>
                  <a:pt x="2023807" y="0"/>
                </a:lnTo>
                <a:lnTo>
                  <a:pt x="2192209" y="0"/>
                </a:lnTo>
                <a:lnTo>
                  <a:pt x="2192209" y="390144"/>
                </a:lnTo>
                <a:lnTo>
                  <a:pt x="2461195" y="390144"/>
                </a:lnTo>
                <a:close/>
                <a:moveTo>
                  <a:pt x="3222052" y="0"/>
                </a:moveTo>
                <a:lnTo>
                  <a:pt x="3222052" y="455153"/>
                </a:lnTo>
                <a:lnTo>
                  <a:pt x="3055174" y="455153"/>
                </a:lnTo>
                <a:lnTo>
                  <a:pt x="3055174" y="335280"/>
                </a:lnTo>
                <a:cubicBezTo>
                  <a:pt x="3055174" y="311912"/>
                  <a:pt x="3056063" y="287909"/>
                  <a:pt x="3057841" y="263271"/>
                </a:cubicBezTo>
                <a:cubicBezTo>
                  <a:pt x="3059619" y="238633"/>
                  <a:pt x="3061524" y="217932"/>
                  <a:pt x="3063556" y="201168"/>
                </a:cubicBezTo>
                <a:cubicBezTo>
                  <a:pt x="3065588" y="184404"/>
                  <a:pt x="3066858" y="173736"/>
                  <a:pt x="3067366" y="169164"/>
                </a:cubicBezTo>
                <a:lnTo>
                  <a:pt x="3064318" y="169164"/>
                </a:lnTo>
                <a:lnTo>
                  <a:pt x="2986377" y="455153"/>
                </a:lnTo>
                <a:lnTo>
                  <a:pt x="2816696" y="455153"/>
                </a:lnTo>
                <a:lnTo>
                  <a:pt x="2738182" y="169926"/>
                </a:lnTo>
                <a:lnTo>
                  <a:pt x="2735134" y="169926"/>
                </a:lnTo>
                <a:cubicBezTo>
                  <a:pt x="2735642" y="174498"/>
                  <a:pt x="2737039" y="185039"/>
                  <a:pt x="2739325" y="201549"/>
                </a:cubicBezTo>
                <a:cubicBezTo>
                  <a:pt x="2741611" y="218059"/>
                  <a:pt x="2743770" y="238633"/>
                  <a:pt x="2745802" y="263271"/>
                </a:cubicBezTo>
                <a:cubicBezTo>
                  <a:pt x="2747834" y="287909"/>
                  <a:pt x="2748850" y="311912"/>
                  <a:pt x="2748850" y="335280"/>
                </a:cubicBezTo>
                <a:lnTo>
                  <a:pt x="2748850" y="455153"/>
                </a:lnTo>
                <a:lnTo>
                  <a:pt x="2594164" y="455153"/>
                </a:lnTo>
                <a:lnTo>
                  <a:pt x="2594164" y="0"/>
                </a:lnTo>
                <a:lnTo>
                  <a:pt x="2831908" y="0"/>
                </a:lnTo>
                <a:lnTo>
                  <a:pt x="2911156" y="302514"/>
                </a:lnTo>
                <a:lnTo>
                  <a:pt x="2914204" y="302514"/>
                </a:lnTo>
                <a:lnTo>
                  <a:pt x="2992690" y="0"/>
                </a:lnTo>
                <a:lnTo>
                  <a:pt x="3222052" y="0"/>
                </a:lnTo>
                <a:close/>
                <a:moveTo>
                  <a:pt x="3863656" y="398526"/>
                </a:moveTo>
                <a:lnTo>
                  <a:pt x="3863656" y="455153"/>
                </a:lnTo>
                <a:lnTo>
                  <a:pt x="3404932" y="455153"/>
                </a:lnTo>
                <a:lnTo>
                  <a:pt x="3404932" y="0"/>
                </a:lnTo>
                <a:lnTo>
                  <a:pt x="3858322" y="0"/>
                </a:lnTo>
                <a:lnTo>
                  <a:pt x="3858322" y="125730"/>
                </a:lnTo>
                <a:lnTo>
                  <a:pt x="3573334" y="125730"/>
                </a:lnTo>
                <a:lnTo>
                  <a:pt x="3573334" y="198120"/>
                </a:lnTo>
                <a:lnTo>
                  <a:pt x="3817174" y="198120"/>
                </a:lnTo>
                <a:lnTo>
                  <a:pt x="3817174" y="318516"/>
                </a:lnTo>
                <a:lnTo>
                  <a:pt x="3573334" y="318516"/>
                </a:lnTo>
                <a:lnTo>
                  <a:pt x="3573334" y="398526"/>
                </a:lnTo>
                <a:lnTo>
                  <a:pt x="3863656" y="398526"/>
                </a:lnTo>
                <a:close/>
                <a:moveTo>
                  <a:pt x="4555552" y="0"/>
                </a:moveTo>
                <a:lnTo>
                  <a:pt x="4555552" y="455153"/>
                </a:lnTo>
                <a:lnTo>
                  <a:pt x="4348693" y="455153"/>
                </a:lnTo>
                <a:lnTo>
                  <a:pt x="4188268" y="269748"/>
                </a:lnTo>
                <a:lnTo>
                  <a:pt x="4188268" y="455153"/>
                </a:lnTo>
                <a:lnTo>
                  <a:pt x="4033582" y="455153"/>
                </a:lnTo>
                <a:lnTo>
                  <a:pt x="4033582" y="0"/>
                </a:lnTo>
                <a:lnTo>
                  <a:pt x="4180648" y="0"/>
                </a:lnTo>
                <a:lnTo>
                  <a:pt x="4400866" y="258318"/>
                </a:lnTo>
                <a:lnTo>
                  <a:pt x="4400866" y="0"/>
                </a:lnTo>
                <a:lnTo>
                  <a:pt x="4555552" y="0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TextBox 13"/>
          <p:cNvSpPr/>
          <p:nvPr/>
        </p:nvSpPr>
        <p:spPr>
          <a:xfrm>
            <a:off x="4122720" y="1504800"/>
            <a:ext cx="431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yiv*Type Sans"/>
                <a:ea typeface="Vollkorn"/>
              </a:rPr>
              <a:t>PORTFOLIO </a:t>
            </a:r>
            <a:r>
              <a:rPr b="1" lang="en-US" sz="4400" spc="-1" strike="noStrike">
                <a:solidFill>
                  <a:srgbClr val="ff3636"/>
                </a:solidFill>
                <a:latin typeface="Kyiv*Type Sans"/>
                <a:ea typeface="Vollkorn"/>
              </a:rPr>
              <a:t>EVERYON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Text Placeholder 6"/>
          <p:cNvSpPr/>
          <p:nvPr/>
        </p:nvSpPr>
        <p:spPr>
          <a:xfrm>
            <a:off x="7147080" y="3429000"/>
            <a:ext cx="375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Text Placeholder 6"/>
          <p:cNvSpPr/>
          <p:nvPr/>
        </p:nvSpPr>
        <p:spPr>
          <a:xfrm>
            <a:off x="7184880" y="5338800"/>
            <a:ext cx="1524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Straight Connector 16"/>
          <p:cNvSpPr/>
          <p:nvPr/>
        </p:nvSpPr>
        <p:spPr>
          <a:xfrm>
            <a:off x="7273800" y="5597640"/>
            <a:ext cx="34290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7" name="" descr=""/>
          <p:cNvPicPr/>
          <p:nvPr/>
        </p:nvPicPr>
        <p:blipFill>
          <a:blip r:embed="rId2"/>
          <a:stretch/>
        </p:blipFill>
        <p:spPr>
          <a:xfrm>
            <a:off x="1752480" y="552600"/>
            <a:ext cx="331488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2" name="Group 5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63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6" name="Group 12"/>
          <p:cNvGrpSpPr/>
          <p:nvPr/>
        </p:nvGrpSpPr>
        <p:grpSpPr>
          <a:xfrm>
            <a:off x="3817800" y="2732040"/>
            <a:ext cx="4556160" cy="1419120"/>
            <a:chOff x="3817800" y="2732040"/>
            <a:chExt cx="4556160" cy="1419120"/>
          </a:xfrm>
        </p:grpSpPr>
        <p:sp>
          <p:nvSpPr>
            <p:cNvPr id="1167" name="TextBox 9"/>
            <p:cNvSpPr/>
            <p:nvPr/>
          </p:nvSpPr>
          <p:spPr>
            <a:xfrm>
              <a:off x="3817800" y="2732040"/>
              <a:ext cx="4556160" cy="454680"/>
            </a:xfrm>
            <a:custGeom>
              <a:avLst/>
              <a:gdLst/>
              <a:ahLst/>
              <a:rect l="l" t="t" r="r" b="b"/>
              <a:pathLst>
                <a:path w="4555552" h="455153">
                  <a:moveTo>
                    <a:pt x="317689" y="332994"/>
                  </a:moveTo>
                  <a:lnTo>
                    <a:pt x="262825" y="146304"/>
                  </a:lnTo>
                  <a:lnTo>
                    <a:pt x="259777" y="146304"/>
                  </a:lnTo>
                  <a:lnTo>
                    <a:pt x="204151" y="332994"/>
                  </a:lnTo>
                  <a:lnTo>
                    <a:pt x="317689" y="332994"/>
                  </a:lnTo>
                  <a:close/>
                  <a:moveTo>
                    <a:pt x="527937" y="455153"/>
                  </a:moveTo>
                  <a:lnTo>
                    <a:pt x="354180" y="455153"/>
                  </a:lnTo>
                  <a:lnTo>
                    <a:pt x="352741" y="450342"/>
                  </a:lnTo>
                  <a:lnTo>
                    <a:pt x="169099" y="450342"/>
                  </a:lnTo>
                  <a:lnTo>
                    <a:pt x="167661" y="455153"/>
                  </a:lnTo>
                  <a:lnTo>
                    <a:pt x="0" y="455153"/>
                  </a:lnTo>
                  <a:lnTo>
                    <a:pt x="166051" y="0"/>
                  </a:lnTo>
                  <a:lnTo>
                    <a:pt x="361885" y="0"/>
                  </a:lnTo>
                  <a:lnTo>
                    <a:pt x="527937" y="455153"/>
                  </a:lnTo>
                  <a:close/>
                  <a:moveTo>
                    <a:pt x="1213039" y="0"/>
                  </a:moveTo>
                  <a:lnTo>
                    <a:pt x="1052280" y="455153"/>
                  </a:lnTo>
                  <a:lnTo>
                    <a:pt x="808294" y="455153"/>
                  </a:lnTo>
                  <a:lnTo>
                    <a:pt x="646873" y="0"/>
                  </a:lnTo>
                  <a:lnTo>
                    <a:pt x="826705" y="0"/>
                  </a:lnTo>
                  <a:lnTo>
                    <a:pt x="931861" y="350520"/>
                  </a:lnTo>
                  <a:lnTo>
                    <a:pt x="934909" y="350520"/>
                  </a:lnTo>
                  <a:lnTo>
                    <a:pt x="1040827" y="0"/>
                  </a:lnTo>
                  <a:lnTo>
                    <a:pt x="1213039" y="0"/>
                  </a:lnTo>
                  <a:close/>
                  <a:moveTo>
                    <a:pt x="1651189" y="332994"/>
                  </a:moveTo>
                  <a:lnTo>
                    <a:pt x="1596325" y="146304"/>
                  </a:lnTo>
                  <a:lnTo>
                    <a:pt x="1593277" y="146304"/>
                  </a:lnTo>
                  <a:lnTo>
                    <a:pt x="1537651" y="332994"/>
                  </a:lnTo>
                  <a:lnTo>
                    <a:pt x="1651189" y="332994"/>
                  </a:lnTo>
                  <a:close/>
                  <a:moveTo>
                    <a:pt x="1861437" y="455153"/>
                  </a:moveTo>
                  <a:lnTo>
                    <a:pt x="1687679" y="455153"/>
                  </a:lnTo>
                  <a:lnTo>
                    <a:pt x="1686241" y="450342"/>
                  </a:lnTo>
                  <a:lnTo>
                    <a:pt x="1502599" y="450342"/>
                  </a:lnTo>
                  <a:lnTo>
                    <a:pt x="1501161" y="455153"/>
                  </a:lnTo>
                  <a:lnTo>
                    <a:pt x="1333500" y="455153"/>
                  </a:lnTo>
                  <a:lnTo>
                    <a:pt x="1499551" y="0"/>
                  </a:lnTo>
                  <a:lnTo>
                    <a:pt x="1695385" y="0"/>
                  </a:lnTo>
                  <a:lnTo>
                    <a:pt x="1861437" y="455153"/>
                  </a:lnTo>
                  <a:close/>
                  <a:moveTo>
                    <a:pt x="2461195" y="390144"/>
                  </a:moveTo>
                  <a:lnTo>
                    <a:pt x="2461195" y="455153"/>
                  </a:lnTo>
                  <a:lnTo>
                    <a:pt x="2023807" y="455153"/>
                  </a:lnTo>
                  <a:lnTo>
                    <a:pt x="2023807" y="0"/>
                  </a:lnTo>
                  <a:lnTo>
                    <a:pt x="2192209" y="0"/>
                  </a:lnTo>
                  <a:lnTo>
                    <a:pt x="2192209" y="390144"/>
                  </a:lnTo>
                  <a:lnTo>
                    <a:pt x="2461195" y="390144"/>
                  </a:lnTo>
                  <a:close/>
                  <a:moveTo>
                    <a:pt x="3222052" y="0"/>
                  </a:moveTo>
                  <a:lnTo>
                    <a:pt x="3222052" y="455153"/>
                  </a:lnTo>
                  <a:lnTo>
                    <a:pt x="3055174" y="455153"/>
                  </a:lnTo>
                  <a:lnTo>
                    <a:pt x="3055174" y="335280"/>
                  </a:lnTo>
                  <a:cubicBezTo>
                    <a:pt x="3055174" y="311912"/>
                    <a:pt x="3056063" y="287909"/>
                    <a:pt x="3057841" y="263271"/>
                  </a:cubicBezTo>
                  <a:cubicBezTo>
                    <a:pt x="3059619" y="238633"/>
                    <a:pt x="3061524" y="217932"/>
                    <a:pt x="3063556" y="201168"/>
                  </a:cubicBezTo>
                  <a:cubicBezTo>
                    <a:pt x="3065588" y="184404"/>
                    <a:pt x="3066858" y="173736"/>
                    <a:pt x="3067366" y="169164"/>
                  </a:cubicBezTo>
                  <a:lnTo>
                    <a:pt x="3064318" y="169164"/>
                  </a:lnTo>
                  <a:lnTo>
                    <a:pt x="2986377" y="455153"/>
                  </a:lnTo>
                  <a:lnTo>
                    <a:pt x="2816696" y="455153"/>
                  </a:lnTo>
                  <a:lnTo>
                    <a:pt x="2738182" y="169926"/>
                  </a:lnTo>
                  <a:lnTo>
                    <a:pt x="2735134" y="169926"/>
                  </a:lnTo>
                  <a:cubicBezTo>
                    <a:pt x="2735642" y="174498"/>
                    <a:pt x="2737039" y="185039"/>
                    <a:pt x="2739325" y="201549"/>
                  </a:cubicBezTo>
                  <a:cubicBezTo>
                    <a:pt x="2741611" y="218059"/>
                    <a:pt x="2743770" y="238633"/>
                    <a:pt x="2745802" y="263271"/>
                  </a:cubicBezTo>
                  <a:cubicBezTo>
                    <a:pt x="2747834" y="287909"/>
                    <a:pt x="2748850" y="311912"/>
                    <a:pt x="2748850" y="335280"/>
                  </a:cubicBezTo>
                  <a:lnTo>
                    <a:pt x="2748850" y="455153"/>
                  </a:lnTo>
                  <a:lnTo>
                    <a:pt x="2594164" y="455153"/>
                  </a:lnTo>
                  <a:lnTo>
                    <a:pt x="2594164" y="0"/>
                  </a:lnTo>
                  <a:lnTo>
                    <a:pt x="2831908" y="0"/>
                  </a:lnTo>
                  <a:lnTo>
                    <a:pt x="2911156" y="302514"/>
                  </a:lnTo>
                  <a:lnTo>
                    <a:pt x="2914204" y="302514"/>
                  </a:lnTo>
                  <a:lnTo>
                    <a:pt x="2992690" y="0"/>
                  </a:lnTo>
                  <a:lnTo>
                    <a:pt x="3222052" y="0"/>
                  </a:lnTo>
                  <a:close/>
                  <a:moveTo>
                    <a:pt x="3863656" y="398526"/>
                  </a:moveTo>
                  <a:lnTo>
                    <a:pt x="3863656" y="455153"/>
                  </a:lnTo>
                  <a:lnTo>
                    <a:pt x="3404932" y="455153"/>
                  </a:lnTo>
                  <a:lnTo>
                    <a:pt x="3404932" y="0"/>
                  </a:lnTo>
                  <a:lnTo>
                    <a:pt x="3858322" y="0"/>
                  </a:lnTo>
                  <a:lnTo>
                    <a:pt x="3858322" y="125730"/>
                  </a:lnTo>
                  <a:lnTo>
                    <a:pt x="3573334" y="125730"/>
                  </a:lnTo>
                  <a:lnTo>
                    <a:pt x="3573334" y="198120"/>
                  </a:lnTo>
                  <a:lnTo>
                    <a:pt x="3817174" y="198120"/>
                  </a:lnTo>
                  <a:lnTo>
                    <a:pt x="3817174" y="318516"/>
                  </a:lnTo>
                  <a:lnTo>
                    <a:pt x="3573334" y="318516"/>
                  </a:lnTo>
                  <a:lnTo>
                    <a:pt x="3573334" y="398526"/>
                  </a:lnTo>
                  <a:lnTo>
                    <a:pt x="3863656" y="398526"/>
                  </a:lnTo>
                  <a:close/>
                  <a:moveTo>
                    <a:pt x="4555552" y="0"/>
                  </a:moveTo>
                  <a:lnTo>
                    <a:pt x="4555552" y="455153"/>
                  </a:lnTo>
                  <a:lnTo>
                    <a:pt x="4348693" y="455153"/>
                  </a:lnTo>
                  <a:lnTo>
                    <a:pt x="4188268" y="269748"/>
                  </a:lnTo>
                  <a:lnTo>
                    <a:pt x="4188268" y="455153"/>
                  </a:lnTo>
                  <a:lnTo>
                    <a:pt x="4033582" y="455153"/>
                  </a:lnTo>
                  <a:lnTo>
                    <a:pt x="4033582" y="0"/>
                  </a:lnTo>
                  <a:lnTo>
                    <a:pt x="4180648" y="0"/>
                  </a:lnTo>
                  <a:lnTo>
                    <a:pt x="4400866" y="258318"/>
                  </a:lnTo>
                  <a:lnTo>
                    <a:pt x="4400866" y="0"/>
                  </a:lnTo>
                  <a:lnTo>
                    <a:pt x="4555552" y="0"/>
                  </a:lnTo>
                  <a:close/>
                </a:path>
              </a:pathLst>
            </a:custGeom>
            <a:solidFill>
              <a:srgbClr val="ff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TextBox 10"/>
            <p:cNvSpPr/>
            <p:nvPr/>
          </p:nvSpPr>
          <p:spPr>
            <a:xfrm>
              <a:off x="3817800" y="3214080"/>
              <a:ext cx="4556160" cy="454680"/>
            </a:xfrm>
            <a:custGeom>
              <a:avLst/>
              <a:gdLst/>
              <a:ahLst/>
              <a:rect l="l" t="t" r="r" b="b"/>
              <a:pathLst>
                <a:path w="4555552" h="455153">
                  <a:moveTo>
                    <a:pt x="317689" y="332994"/>
                  </a:moveTo>
                  <a:lnTo>
                    <a:pt x="262825" y="146304"/>
                  </a:lnTo>
                  <a:lnTo>
                    <a:pt x="259777" y="146304"/>
                  </a:lnTo>
                  <a:lnTo>
                    <a:pt x="204151" y="332994"/>
                  </a:lnTo>
                  <a:lnTo>
                    <a:pt x="317689" y="332994"/>
                  </a:lnTo>
                  <a:close/>
                  <a:moveTo>
                    <a:pt x="527937" y="455153"/>
                  </a:moveTo>
                  <a:lnTo>
                    <a:pt x="354180" y="455153"/>
                  </a:lnTo>
                  <a:lnTo>
                    <a:pt x="352741" y="450342"/>
                  </a:lnTo>
                  <a:lnTo>
                    <a:pt x="169099" y="450342"/>
                  </a:lnTo>
                  <a:lnTo>
                    <a:pt x="167661" y="455153"/>
                  </a:lnTo>
                  <a:lnTo>
                    <a:pt x="0" y="455153"/>
                  </a:lnTo>
                  <a:lnTo>
                    <a:pt x="166051" y="0"/>
                  </a:lnTo>
                  <a:lnTo>
                    <a:pt x="361885" y="0"/>
                  </a:lnTo>
                  <a:lnTo>
                    <a:pt x="527937" y="455153"/>
                  </a:lnTo>
                  <a:close/>
                  <a:moveTo>
                    <a:pt x="1213039" y="0"/>
                  </a:moveTo>
                  <a:lnTo>
                    <a:pt x="1052280" y="455153"/>
                  </a:lnTo>
                  <a:lnTo>
                    <a:pt x="808294" y="455153"/>
                  </a:lnTo>
                  <a:lnTo>
                    <a:pt x="646873" y="0"/>
                  </a:lnTo>
                  <a:lnTo>
                    <a:pt x="826705" y="0"/>
                  </a:lnTo>
                  <a:lnTo>
                    <a:pt x="931861" y="350520"/>
                  </a:lnTo>
                  <a:lnTo>
                    <a:pt x="934909" y="350520"/>
                  </a:lnTo>
                  <a:lnTo>
                    <a:pt x="1040827" y="0"/>
                  </a:lnTo>
                  <a:lnTo>
                    <a:pt x="1213039" y="0"/>
                  </a:lnTo>
                  <a:close/>
                  <a:moveTo>
                    <a:pt x="1651189" y="332994"/>
                  </a:moveTo>
                  <a:lnTo>
                    <a:pt x="1596325" y="146304"/>
                  </a:lnTo>
                  <a:lnTo>
                    <a:pt x="1593277" y="146304"/>
                  </a:lnTo>
                  <a:lnTo>
                    <a:pt x="1537651" y="332994"/>
                  </a:lnTo>
                  <a:lnTo>
                    <a:pt x="1651189" y="332994"/>
                  </a:lnTo>
                  <a:close/>
                  <a:moveTo>
                    <a:pt x="1861437" y="455153"/>
                  </a:moveTo>
                  <a:lnTo>
                    <a:pt x="1687679" y="455153"/>
                  </a:lnTo>
                  <a:lnTo>
                    <a:pt x="1686241" y="450342"/>
                  </a:lnTo>
                  <a:lnTo>
                    <a:pt x="1502599" y="450342"/>
                  </a:lnTo>
                  <a:lnTo>
                    <a:pt x="1501161" y="455153"/>
                  </a:lnTo>
                  <a:lnTo>
                    <a:pt x="1333500" y="455153"/>
                  </a:lnTo>
                  <a:lnTo>
                    <a:pt x="1499551" y="0"/>
                  </a:lnTo>
                  <a:lnTo>
                    <a:pt x="1695385" y="0"/>
                  </a:lnTo>
                  <a:lnTo>
                    <a:pt x="1861437" y="455153"/>
                  </a:lnTo>
                  <a:close/>
                  <a:moveTo>
                    <a:pt x="2461195" y="390144"/>
                  </a:moveTo>
                  <a:lnTo>
                    <a:pt x="2461195" y="455153"/>
                  </a:lnTo>
                  <a:lnTo>
                    <a:pt x="2023807" y="455153"/>
                  </a:lnTo>
                  <a:lnTo>
                    <a:pt x="2023807" y="0"/>
                  </a:lnTo>
                  <a:lnTo>
                    <a:pt x="2192209" y="0"/>
                  </a:lnTo>
                  <a:lnTo>
                    <a:pt x="2192209" y="390144"/>
                  </a:lnTo>
                  <a:lnTo>
                    <a:pt x="2461195" y="390144"/>
                  </a:lnTo>
                  <a:close/>
                  <a:moveTo>
                    <a:pt x="3222052" y="0"/>
                  </a:moveTo>
                  <a:lnTo>
                    <a:pt x="3222052" y="455153"/>
                  </a:lnTo>
                  <a:lnTo>
                    <a:pt x="3055174" y="455153"/>
                  </a:lnTo>
                  <a:lnTo>
                    <a:pt x="3055174" y="335280"/>
                  </a:lnTo>
                  <a:cubicBezTo>
                    <a:pt x="3055174" y="311912"/>
                    <a:pt x="3056063" y="287909"/>
                    <a:pt x="3057841" y="263271"/>
                  </a:cubicBezTo>
                  <a:cubicBezTo>
                    <a:pt x="3059619" y="238633"/>
                    <a:pt x="3061524" y="217932"/>
                    <a:pt x="3063556" y="201168"/>
                  </a:cubicBezTo>
                  <a:cubicBezTo>
                    <a:pt x="3065588" y="184404"/>
                    <a:pt x="3066858" y="173736"/>
                    <a:pt x="3067366" y="169164"/>
                  </a:cubicBezTo>
                  <a:lnTo>
                    <a:pt x="3064318" y="169164"/>
                  </a:lnTo>
                  <a:lnTo>
                    <a:pt x="2986377" y="455153"/>
                  </a:lnTo>
                  <a:lnTo>
                    <a:pt x="2816696" y="455153"/>
                  </a:lnTo>
                  <a:lnTo>
                    <a:pt x="2738182" y="169926"/>
                  </a:lnTo>
                  <a:lnTo>
                    <a:pt x="2735134" y="169926"/>
                  </a:lnTo>
                  <a:cubicBezTo>
                    <a:pt x="2735642" y="174498"/>
                    <a:pt x="2737039" y="185039"/>
                    <a:pt x="2739325" y="201549"/>
                  </a:cubicBezTo>
                  <a:cubicBezTo>
                    <a:pt x="2741611" y="218059"/>
                    <a:pt x="2743770" y="238633"/>
                    <a:pt x="2745802" y="263271"/>
                  </a:cubicBezTo>
                  <a:cubicBezTo>
                    <a:pt x="2747834" y="287909"/>
                    <a:pt x="2748850" y="311912"/>
                    <a:pt x="2748850" y="335280"/>
                  </a:cubicBezTo>
                  <a:lnTo>
                    <a:pt x="2748850" y="455153"/>
                  </a:lnTo>
                  <a:lnTo>
                    <a:pt x="2594164" y="455153"/>
                  </a:lnTo>
                  <a:lnTo>
                    <a:pt x="2594164" y="0"/>
                  </a:lnTo>
                  <a:lnTo>
                    <a:pt x="2831908" y="0"/>
                  </a:lnTo>
                  <a:lnTo>
                    <a:pt x="2911156" y="302514"/>
                  </a:lnTo>
                  <a:lnTo>
                    <a:pt x="2914204" y="302514"/>
                  </a:lnTo>
                  <a:lnTo>
                    <a:pt x="2992690" y="0"/>
                  </a:lnTo>
                  <a:lnTo>
                    <a:pt x="3222052" y="0"/>
                  </a:lnTo>
                  <a:close/>
                  <a:moveTo>
                    <a:pt x="3863656" y="398526"/>
                  </a:moveTo>
                  <a:lnTo>
                    <a:pt x="3863656" y="455153"/>
                  </a:lnTo>
                  <a:lnTo>
                    <a:pt x="3404932" y="455153"/>
                  </a:lnTo>
                  <a:lnTo>
                    <a:pt x="3404932" y="0"/>
                  </a:lnTo>
                  <a:lnTo>
                    <a:pt x="3858322" y="0"/>
                  </a:lnTo>
                  <a:lnTo>
                    <a:pt x="3858322" y="125730"/>
                  </a:lnTo>
                  <a:lnTo>
                    <a:pt x="3573334" y="125730"/>
                  </a:lnTo>
                  <a:lnTo>
                    <a:pt x="3573334" y="198120"/>
                  </a:lnTo>
                  <a:lnTo>
                    <a:pt x="3817174" y="198120"/>
                  </a:lnTo>
                  <a:lnTo>
                    <a:pt x="3817174" y="318516"/>
                  </a:lnTo>
                  <a:lnTo>
                    <a:pt x="3573334" y="318516"/>
                  </a:lnTo>
                  <a:lnTo>
                    <a:pt x="3573334" y="398526"/>
                  </a:lnTo>
                  <a:lnTo>
                    <a:pt x="3863656" y="398526"/>
                  </a:lnTo>
                  <a:close/>
                  <a:moveTo>
                    <a:pt x="4555552" y="0"/>
                  </a:moveTo>
                  <a:lnTo>
                    <a:pt x="4555552" y="455153"/>
                  </a:lnTo>
                  <a:lnTo>
                    <a:pt x="4348693" y="455153"/>
                  </a:lnTo>
                  <a:lnTo>
                    <a:pt x="4188268" y="269748"/>
                  </a:lnTo>
                  <a:lnTo>
                    <a:pt x="4188268" y="455153"/>
                  </a:lnTo>
                  <a:lnTo>
                    <a:pt x="4033582" y="455153"/>
                  </a:lnTo>
                  <a:lnTo>
                    <a:pt x="4033582" y="0"/>
                  </a:lnTo>
                  <a:lnTo>
                    <a:pt x="4180648" y="0"/>
                  </a:lnTo>
                  <a:lnTo>
                    <a:pt x="4400866" y="258318"/>
                  </a:lnTo>
                  <a:lnTo>
                    <a:pt x="4400866" y="0"/>
                  </a:lnTo>
                  <a:lnTo>
                    <a:pt x="4555552" y="0"/>
                  </a:lnTo>
                  <a:close/>
                </a:path>
              </a:pathLst>
            </a:custGeom>
            <a:solidFill>
              <a:srgbClr val="ff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TextBox 11"/>
            <p:cNvSpPr/>
            <p:nvPr/>
          </p:nvSpPr>
          <p:spPr>
            <a:xfrm>
              <a:off x="3817800" y="3696480"/>
              <a:ext cx="4556160" cy="454680"/>
            </a:xfrm>
            <a:custGeom>
              <a:avLst/>
              <a:gdLst/>
              <a:ahLst/>
              <a:rect l="l" t="t" r="r" b="b"/>
              <a:pathLst>
                <a:path w="4555552" h="455153">
                  <a:moveTo>
                    <a:pt x="317689" y="332994"/>
                  </a:moveTo>
                  <a:lnTo>
                    <a:pt x="262825" y="146304"/>
                  </a:lnTo>
                  <a:lnTo>
                    <a:pt x="259777" y="146304"/>
                  </a:lnTo>
                  <a:lnTo>
                    <a:pt x="204151" y="332994"/>
                  </a:lnTo>
                  <a:lnTo>
                    <a:pt x="317689" y="332994"/>
                  </a:lnTo>
                  <a:close/>
                  <a:moveTo>
                    <a:pt x="527937" y="455153"/>
                  </a:moveTo>
                  <a:lnTo>
                    <a:pt x="354180" y="455153"/>
                  </a:lnTo>
                  <a:lnTo>
                    <a:pt x="352741" y="450342"/>
                  </a:lnTo>
                  <a:lnTo>
                    <a:pt x="169099" y="450342"/>
                  </a:lnTo>
                  <a:lnTo>
                    <a:pt x="167661" y="455153"/>
                  </a:lnTo>
                  <a:lnTo>
                    <a:pt x="0" y="455153"/>
                  </a:lnTo>
                  <a:lnTo>
                    <a:pt x="166051" y="0"/>
                  </a:lnTo>
                  <a:lnTo>
                    <a:pt x="361885" y="0"/>
                  </a:lnTo>
                  <a:lnTo>
                    <a:pt x="527937" y="455153"/>
                  </a:lnTo>
                  <a:close/>
                  <a:moveTo>
                    <a:pt x="1213039" y="0"/>
                  </a:moveTo>
                  <a:lnTo>
                    <a:pt x="1052280" y="455153"/>
                  </a:lnTo>
                  <a:lnTo>
                    <a:pt x="808294" y="455153"/>
                  </a:lnTo>
                  <a:lnTo>
                    <a:pt x="646873" y="0"/>
                  </a:lnTo>
                  <a:lnTo>
                    <a:pt x="826705" y="0"/>
                  </a:lnTo>
                  <a:lnTo>
                    <a:pt x="931861" y="350520"/>
                  </a:lnTo>
                  <a:lnTo>
                    <a:pt x="934909" y="350520"/>
                  </a:lnTo>
                  <a:lnTo>
                    <a:pt x="1040827" y="0"/>
                  </a:lnTo>
                  <a:lnTo>
                    <a:pt x="1213039" y="0"/>
                  </a:lnTo>
                  <a:close/>
                  <a:moveTo>
                    <a:pt x="1651189" y="332994"/>
                  </a:moveTo>
                  <a:lnTo>
                    <a:pt x="1596325" y="146304"/>
                  </a:lnTo>
                  <a:lnTo>
                    <a:pt x="1593277" y="146304"/>
                  </a:lnTo>
                  <a:lnTo>
                    <a:pt x="1537651" y="332994"/>
                  </a:lnTo>
                  <a:lnTo>
                    <a:pt x="1651189" y="332994"/>
                  </a:lnTo>
                  <a:close/>
                  <a:moveTo>
                    <a:pt x="1861437" y="455153"/>
                  </a:moveTo>
                  <a:lnTo>
                    <a:pt x="1687679" y="455153"/>
                  </a:lnTo>
                  <a:lnTo>
                    <a:pt x="1686241" y="450342"/>
                  </a:lnTo>
                  <a:lnTo>
                    <a:pt x="1502599" y="450342"/>
                  </a:lnTo>
                  <a:lnTo>
                    <a:pt x="1501161" y="455153"/>
                  </a:lnTo>
                  <a:lnTo>
                    <a:pt x="1333500" y="455153"/>
                  </a:lnTo>
                  <a:lnTo>
                    <a:pt x="1499551" y="0"/>
                  </a:lnTo>
                  <a:lnTo>
                    <a:pt x="1695385" y="0"/>
                  </a:lnTo>
                  <a:lnTo>
                    <a:pt x="1861437" y="455153"/>
                  </a:lnTo>
                  <a:close/>
                  <a:moveTo>
                    <a:pt x="2461195" y="390144"/>
                  </a:moveTo>
                  <a:lnTo>
                    <a:pt x="2461195" y="455153"/>
                  </a:lnTo>
                  <a:lnTo>
                    <a:pt x="2023807" y="455153"/>
                  </a:lnTo>
                  <a:lnTo>
                    <a:pt x="2023807" y="0"/>
                  </a:lnTo>
                  <a:lnTo>
                    <a:pt x="2192209" y="0"/>
                  </a:lnTo>
                  <a:lnTo>
                    <a:pt x="2192209" y="390144"/>
                  </a:lnTo>
                  <a:lnTo>
                    <a:pt x="2461195" y="390144"/>
                  </a:lnTo>
                  <a:close/>
                  <a:moveTo>
                    <a:pt x="3222052" y="0"/>
                  </a:moveTo>
                  <a:lnTo>
                    <a:pt x="3222052" y="455153"/>
                  </a:lnTo>
                  <a:lnTo>
                    <a:pt x="3055174" y="455153"/>
                  </a:lnTo>
                  <a:lnTo>
                    <a:pt x="3055174" y="335280"/>
                  </a:lnTo>
                  <a:cubicBezTo>
                    <a:pt x="3055174" y="311912"/>
                    <a:pt x="3056063" y="287909"/>
                    <a:pt x="3057841" y="263271"/>
                  </a:cubicBezTo>
                  <a:cubicBezTo>
                    <a:pt x="3059619" y="238633"/>
                    <a:pt x="3061524" y="217932"/>
                    <a:pt x="3063556" y="201168"/>
                  </a:cubicBezTo>
                  <a:cubicBezTo>
                    <a:pt x="3065588" y="184404"/>
                    <a:pt x="3066858" y="173736"/>
                    <a:pt x="3067366" y="169164"/>
                  </a:cubicBezTo>
                  <a:lnTo>
                    <a:pt x="3064318" y="169164"/>
                  </a:lnTo>
                  <a:lnTo>
                    <a:pt x="2986377" y="455153"/>
                  </a:lnTo>
                  <a:lnTo>
                    <a:pt x="2816696" y="455153"/>
                  </a:lnTo>
                  <a:lnTo>
                    <a:pt x="2738182" y="169926"/>
                  </a:lnTo>
                  <a:lnTo>
                    <a:pt x="2735134" y="169926"/>
                  </a:lnTo>
                  <a:cubicBezTo>
                    <a:pt x="2735642" y="174498"/>
                    <a:pt x="2737039" y="185039"/>
                    <a:pt x="2739325" y="201549"/>
                  </a:cubicBezTo>
                  <a:cubicBezTo>
                    <a:pt x="2741611" y="218059"/>
                    <a:pt x="2743770" y="238633"/>
                    <a:pt x="2745802" y="263271"/>
                  </a:cubicBezTo>
                  <a:cubicBezTo>
                    <a:pt x="2747834" y="287909"/>
                    <a:pt x="2748850" y="311912"/>
                    <a:pt x="2748850" y="335280"/>
                  </a:cubicBezTo>
                  <a:lnTo>
                    <a:pt x="2748850" y="455153"/>
                  </a:lnTo>
                  <a:lnTo>
                    <a:pt x="2594164" y="455153"/>
                  </a:lnTo>
                  <a:lnTo>
                    <a:pt x="2594164" y="0"/>
                  </a:lnTo>
                  <a:lnTo>
                    <a:pt x="2831908" y="0"/>
                  </a:lnTo>
                  <a:lnTo>
                    <a:pt x="2911156" y="302514"/>
                  </a:lnTo>
                  <a:lnTo>
                    <a:pt x="2914204" y="302514"/>
                  </a:lnTo>
                  <a:lnTo>
                    <a:pt x="2992690" y="0"/>
                  </a:lnTo>
                  <a:lnTo>
                    <a:pt x="3222052" y="0"/>
                  </a:lnTo>
                  <a:close/>
                  <a:moveTo>
                    <a:pt x="3863656" y="398526"/>
                  </a:moveTo>
                  <a:lnTo>
                    <a:pt x="3863656" y="455153"/>
                  </a:lnTo>
                  <a:lnTo>
                    <a:pt x="3404932" y="455153"/>
                  </a:lnTo>
                  <a:lnTo>
                    <a:pt x="3404932" y="0"/>
                  </a:lnTo>
                  <a:lnTo>
                    <a:pt x="3858322" y="0"/>
                  </a:lnTo>
                  <a:lnTo>
                    <a:pt x="3858322" y="125730"/>
                  </a:lnTo>
                  <a:lnTo>
                    <a:pt x="3573334" y="125730"/>
                  </a:lnTo>
                  <a:lnTo>
                    <a:pt x="3573334" y="198120"/>
                  </a:lnTo>
                  <a:lnTo>
                    <a:pt x="3817174" y="198120"/>
                  </a:lnTo>
                  <a:lnTo>
                    <a:pt x="3817174" y="318516"/>
                  </a:lnTo>
                  <a:lnTo>
                    <a:pt x="3573334" y="318516"/>
                  </a:lnTo>
                  <a:lnTo>
                    <a:pt x="3573334" y="398526"/>
                  </a:lnTo>
                  <a:lnTo>
                    <a:pt x="3863656" y="398526"/>
                  </a:lnTo>
                  <a:close/>
                  <a:moveTo>
                    <a:pt x="4555552" y="0"/>
                  </a:moveTo>
                  <a:lnTo>
                    <a:pt x="4555552" y="455153"/>
                  </a:lnTo>
                  <a:lnTo>
                    <a:pt x="4348693" y="455153"/>
                  </a:lnTo>
                  <a:lnTo>
                    <a:pt x="4188268" y="269748"/>
                  </a:lnTo>
                  <a:lnTo>
                    <a:pt x="4188268" y="455153"/>
                  </a:lnTo>
                  <a:lnTo>
                    <a:pt x="4033582" y="455153"/>
                  </a:lnTo>
                  <a:lnTo>
                    <a:pt x="4033582" y="0"/>
                  </a:lnTo>
                  <a:lnTo>
                    <a:pt x="4180648" y="0"/>
                  </a:lnTo>
                  <a:lnTo>
                    <a:pt x="4400866" y="258318"/>
                  </a:lnTo>
                  <a:lnTo>
                    <a:pt x="4400866" y="0"/>
                  </a:lnTo>
                  <a:lnTo>
                    <a:pt x="4555552" y="0"/>
                  </a:lnTo>
                  <a:close/>
                </a:path>
              </a:pathLst>
            </a:custGeom>
            <a:solidFill>
              <a:srgbClr val="ff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0" name="Straight Connector 14"/>
          <p:cNvSpPr/>
          <p:nvPr/>
        </p:nvSpPr>
        <p:spPr>
          <a:xfrm>
            <a:off x="2502000" y="3429000"/>
            <a:ext cx="7213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 Placeholder 6"/>
          <p:cNvSpPr/>
          <p:nvPr/>
        </p:nvSpPr>
        <p:spPr>
          <a:xfrm>
            <a:off x="2600280" y="3164040"/>
            <a:ext cx="69915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6" name="Group 9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77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0" name="Text Placeholder 6"/>
          <p:cNvSpPr/>
          <p:nvPr/>
        </p:nvSpPr>
        <p:spPr>
          <a:xfrm>
            <a:off x="3187800" y="1587600"/>
            <a:ext cx="2273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Text Placeholder 6"/>
          <p:cNvSpPr/>
          <p:nvPr/>
        </p:nvSpPr>
        <p:spPr>
          <a:xfrm>
            <a:off x="3200400" y="270504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traight Connector 21"/>
          <p:cNvSpPr/>
          <p:nvPr/>
        </p:nvSpPr>
        <p:spPr>
          <a:xfrm>
            <a:off x="3289320" y="2963880"/>
            <a:ext cx="19303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Text Placeholder 6"/>
          <p:cNvSpPr/>
          <p:nvPr/>
        </p:nvSpPr>
        <p:spPr>
          <a:xfrm>
            <a:off x="3187800" y="3781440"/>
            <a:ext cx="2273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Text Placeholder 6"/>
          <p:cNvSpPr/>
          <p:nvPr/>
        </p:nvSpPr>
        <p:spPr>
          <a:xfrm>
            <a:off x="3200400" y="490068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Straight Connector 25"/>
          <p:cNvSpPr/>
          <p:nvPr/>
        </p:nvSpPr>
        <p:spPr>
          <a:xfrm>
            <a:off x="3289320" y="5157720"/>
            <a:ext cx="19303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Text Placeholder 6"/>
          <p:cNvSpPr/>
          <p:nvPr/>
        </p:nvSpPr>
        <p:spPr>
          <a:xfrm>
            <a:off x="8086680" y="1587600"/>
            <a:ext cx="22734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Text Placeholder 6"/>
          <p:cNvSpPr/>
          <p:nvPr/>
        </p:nvSpPr>
        <p:spPr>
          <a:xfrm>
            <a:off x="8099280" y="270504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traight Connector 28"/>
          <p:cNvSpPr/>
          <p:nvPr/>
        </p:nvSpPr>
        <p:spPr>
          <a:xfrm>
            <a:off x="8188200" y="2963880"/>
            <a:ext cx="1930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Text Placeholder 6"/>
          <p:cNvSpPr/>
          <p:nvPr/>
        </p:nvSpPr>
        <p:spPr>
          <a:xfrm>
            <a:off x="8086680" y="3781440"/>
            <a:ext cx="22734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Text Placeholder 6"/>
          <p:cNvSpPr/>
          <p:nvPr/>
        </p:nvSpPr>
        <p:spPr>
          <a:xfrm>
            <a:off x="8099280" y="490068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traight Connector 31"/>
          <p:cNvSpPr/>
          <p:nvPr/>
        </p:nvSpPr>
        <p:spPr>
          <a:xfrm>
            <a:off x="8188200" y="5157720"/>
            <a:ext cx="1930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TextBox 32"/>
          <p:cNvSpPr/>
          <p:nvPr/>
        </p:nvSpPr>
        <p:spPr>
          <a:xfrm>
            <a:off x="808200" y="2895480"/>
            <a:ext cx="24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636"/>
                </a:solidFill>
                <a:latin typeface="Kyiv*Type Sans"/>
                <a:ea typeface="Vollkorn"/>
              </a:rPr>
              <a:t>ANDER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TextBox 33"/>
          <p:cNvSpPr/>
          <p:nvPr/>
        </p:nvSpPr>
        <p:spPr>
          <a:xfrm>
            <a:off x="808200" y="5130720"/>
            <a:ext cx="24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636"/>
                </a:solidFill>
                <a:latin typeface="Kyiv*Type Sans"/>
                <a:ea typeface="Vollkorn"/>
              </a:rPr>
              <a:t>JONATH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TextBox 36"/>
          <p:cNvSpPr/>
          <p:nvPr/>
        </p:nvSpPr>
        <p:spPr>
          <a:xfrm>
            <a:off x="5680080" y="289548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636"/>
                </a:solidFill>
                <a:latin typeface="Kyiv*Type Sans"/>
                <a:ea typeface="Vollkorn"/>
              </a:rPr>
              <a:t>MARCHO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TextBox 37"/>
          <p:cNvSpPr/>
          <p:nvPr/>
        </p:nvSpPr>
        <p:spPr>
          <a:xfrm>
            <a:off x="5680080" y="513072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636"/>
                </a:solidFill>
                <a:latin typeface="Kyiv*Type Sans"/>
                <a:ea typeface="Vollkorn"/>
              </a:rPr>
              <a:t>DAVID JOS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7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198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Subtitle 2"/>
          <p:cNvSpPr/>
          <p:nvPr/>
        </p:nvSpPr>
        <p:spPr>
          <a:xfrm>
            <a:off x="6064200" y="3684600"/>
            <a:ext cx="5695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Kyiv*Type Sans"/>
                <a:ea typeface="Vollkorn"/>
              </a:rPr>
              <a:t>OUR DESKTOP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3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04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2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  <p:pic>
        <p:nvPicPr>
          <p:cNvPr id="1206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207" name="" descr=""/>
          <p:cNvPicPr/>
          <p:nvPr/>
        </p:nvPicPr>
        <p:blipFill>
          <a:blip r:embed="rId4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2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213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6" name="TextBox 17"/>
          <p:cNvSpPr/>
          <p:nvPr/>
        </p:nvSpPr>
        <p:spPr>
          <a:xfrm>
            <a:off x="2309760" y="3557520"/>
            <a:ext cx="75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TextBox 18"/>
          <p:cNvSpPr/>
          <p:nvPr/>
        </p:nvSpPr>
        <p:spPr>
          <a:xfrm>
            <a:off x="2309760" y="4226040"/>
            <a:ext cx="75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636"/>
                </a:solidFill>
                <a:latin typeface="Kyiv*Type Sans"/>
                <a:ea typeface="Vollkorn"/>
              </a:rPr>
              <a:t>THANKYO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Box 19"/>
          <p:cNvSpPr/>
          <p:nvPr/>
        </p:nvSpPr>
        <p:spPr>
          <a:xfrm>
            <a:off x="2309760" y="4881600"/>
            <a:ext cx="75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traight Connector 15"/>
          <p:cNvSpPr/>
          <p:nvPr/>
        </p:nvSpPr>
        <p:spPr>
          <a:xfrm>
            <a:off x="2502000" y="4863960"/>
            <a:ext cx="72136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0" name="" descr=""/>
          <p:cNvPicPr/>
          <p:nvPr/>
        </p:nvPicPr>
        <p:blipFill>
          <a:blip r:embed="rId1"/>
          <a:stretch/>
        </p:blipFill>
        <p:spPr>
          <a:xfrm>
            <a:off x="3949560" y="1994040"/>
            <a:ext cx="430560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Shape 4584"/>
          <p:cNvSpPr/>
          <p:nvPr/>
        </p:nvSpPr>
        <p:spPr>
          <a:xfrm>
            <a:off x="10417320" y="560088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hape 4586"/>
          <p:cNvSpPr/>
          <p:nvPr/>
        </p:nvSpPr>
        <p:spPr>
          <a:xfrm>
            <a:off x="9499680" y="5549760"/>
            <a:ext cx="125280" cy="228600"/>
          </a:xfrm>
          <a:custGeom>
            <a:avLst/>
            <a:gdLst>
              <a:gd name="textAreaLeft" fmla="*/ 0 w 125280"/>
              <a:gd name="textAreaRight" fmla="*/ 125640 w 125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Shape 4588"/>
          <p:cNvSpPr/>
          <p:nvPr/>
        </p:nvSpPr>
        <p:spPr>
          <a:xfrm>
            <a:off x="8429760" y="551664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hape 4590"/>
          <p:cNvSpPr/>
          <p:nvPr/>
        </p:nvSpPr>
        <p:spPr>
          <a:xfrm>
            <a:off x="7520040" y="5516640"/>
            <a:ext cx="127080" cy="296640"/>
          </a:xfrm>
          <a:custGeom>
            <a:avLst/>
            <a:gdLst>
              <a:gd name="textAreaLeft" fmla="*/ 0 w 127080"/>
              <a:gd name="textAreaRight" fmla="*/ 127440 w 1270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hape 4592"/>
          <p:cNvSpPr/>
          <p:nvPr/>
        </p:nvSpPr>
        <p:spPr>
          <a:xfrm>
            <a:off x="6470640" y="552924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lnTo>
                  <a:pt x="49943" y="100748"/>
                </a:ln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Shape 4594"/>
          <p:cNvSpPr/>
          <p:nvPr/>
        </p:nvSpPr>
        <p:spPr>
          <a:xfrm>
            <a:off x="10391760" y="506880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lnTo>
                  <a:pt x="39179" y="119718"/>
                </a:ln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596"/>
          <p:cNvSpPr/>
          <p:nvPr/>
        </p:nvSpPr>
        <p:spPr>
          <a:xfrm>
            <a:off x="9414000" y="5019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598"/>
          <p:cNvSpPr/>
          <p:nvPr/>
        </p:nvSpPr>
        <p:spPr>
          <a:xfrm>
            <a:off x="8429760" y="501984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600"/>
          <p:cNvSpPr/>
          <p:nvPr/>
        </p:nvSpPr>
        <p:spPr>
          <a:xfrm>
            <a:off x="7446960" y="50198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602"/>
          <p:cNvSpPr/>
          <p:nvPr/>
        </p:nvSpPr>
        <p:spPr>
          <a:xfrm>
            <a:off x="6470640" y="501984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604"/>
          <p:cNvSpPr/>
          <p:nvPr/>
        </p:nvSpPr>
        <p:spPr>
          <a:xfrm>
            <a:off x="10391760" y="453240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606"/>
          <p:cNvSpPr/>
          <p:nvPr/>
        </p:nvSpPr>
        <p:spPr>
          <a:xfrm>
            <a:off x="9414000" y="453240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608"/>
          <p:cNvSpPr/>
          <p:nvPr/>
        </p:nvSpPr>
        <p:spPr>
          <a:xfrm>
            <a:off x="8429760" y="453240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610"/>
          <p:cNvSpPr/>
          <p:nvPr/>
        </p:nvSpPr>
        <p:spPr>
          <a:xfrm>
            <a:off x="7446960" y="453240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612"/>
          <p:cNvSpPr/>
          <p:nvPr/>
        </p:nvSpPr>
        <p:spPr>
          <a:xfrm>
            <a:off x="6470640" y="453240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614"/>
          <p:cNvSpPr/>
          <p:nvPr/>
        </p:nvSpPr>
        <p:spPr>
          <a:xfrm>
            <a:off x="1039176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616"/>
          <p:cNvSpPr/>
          <p:nvPr/>
        </p:nvSpPr>
        <p:spPr>
          <a:xfrm>
            <a:off x="9414000" y="3660840"/>
            <a:ext cx="296640" cy="73080"/>
          </a:xfrm>
          <a:custGeom>
            <a:avLst/>
            <a:gdLst>
              <a:gd name="textAreaLeft" fmla="*/ 0 w 296640"/>
              <a:gd name="textAreaRight" fmla="*/ 297000 w 296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618"/>
          <p:cNvSpPr/>
          <p:nvPr/>
        </p:nvSpPr>
        <p:spPr>
          <a:xfrm>
            <a:off x="8429760" y="3562200"/>
            <a:ext cx="304560" cy="268560"/>
          </a:xfrm>
          <a:custGeom>
            <a:avLst/>
            <a:gdLst>
              <a:gd name="textAreaLeft" fmla="*/ 0 w 304560"/>
              <a:gd name="textAreaRight" fmla="*/ 304920 w 3045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620"/>
          <p:cNvSpPr/>
          <p:nvPr/>
        </p:nvSpPr>
        <p:spPr>
          <a:xfrm>
            <a:off x="7446960" y="3546360"/>
            <a:ext cx="306360" cy="298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622"/>
          <p:cNvSpPr/>
          <p:nvPr/>
        </p:nvSpPr>
        <p:spPr>
          <a:xfrm>
            <a:off x="647064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624"/>
          <p:cNvSpPr/>
          <p:nvPr/>
        </p:nvSpPr>
        <p:spPr>
          <a:xfrm>
            <a:off x="1039176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626"/>
          <p:cNvSpPr/>
          <p:nvPr/>
        </p:nvSpPr>
        <p:spPr>
          <a:xfrm>
            <a:off x="9414000" y="3051000"/>
            <a:ext cx="296640" cy="30492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628"/>
          <p:cNvSpPr/>
          <p:nvPr/>
        </p:nvSpPr>
        <p:spPr>
          <a:xfrm>
            <a:off x="8429760" y="305100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630"/>
          <p:cNvSpPr/>
          <p:nvPr/>
        </p:nvSpPr>
        <p:spPr>
          <a:xfrm>
            <a:off x="7446960" y="305100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632"/>
          <p:cNvSpPr/>
          <p:nvPr/>
        </p:nvSpPr>
        <p:spPr>
          <a:xfrm>
            <a:off x="64706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634"/>
          <p:cNvSpPr/>
          <p:nvPr/>
        </p:nvSpPr>
        <p:spPr>
          <a:xfrm>
            <a:off x="10417320" y="2149560"/>
            <a:ext cx="269640" cy="304560"/>
          </a:xfrm>
          <a:custGeom>
            <a:avLst/>
            <a:gdLst>
              <a:gd name="textAreaLeft" fmla="*/ 0 w 269640"/>
              <a:gd name="textAreaRight" fmla="*/ 270000 w 269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636"/>
          <p:cNvSpPr/>
          <p:nvPr/>
        </p:nvSpPr>
        <p:spPr>
          <a:xfrm>
            <a:off x="9414000" y="2170080"/>
            <a:ext cx="296640" cy="263520"/>
          </a:xfrm>
          <a:custGeom>
            <a:avLst/>
            <a:gdLst>
              <a:gd name="textAreaLeft" fmla="*/ 0 w 296640"/>
              <a:gd name="textAreaRight" fmla="*/ 297000 w 296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638"/>
          <p:cNvSpPr/>
          <p:nvPr/>
        </p:nvSpPr>
        <p:spPr>
          <a:xfrm>
            <a:off x="8451720" y="2170080"/>
            <a:ext cx="262080" cy="263520"/>
          </a:xfrm>
          <a:custGeom>
            <a:avLst/>
            <a:gdLst>
              <a:gd name="textAreaLeft" fmla="*/ 0 w 262080"/>
              <a:gd name="textAreaRight" fmla="*/ 262440 w 26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640"/>
          <p:cNvSpPr/>
          <p:nvPr/>
        </p:nvSpPr>
        <p:spPr>
          <a:xfrm>
            <a:off x="7446960" y="214956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642"/>
          <p:cNvSpPr/>
          <p:nvPr/>
        </p:nvSpPr>
        <p:spPr>
          <a:xfrm>
            <a:off x="6485040" y="2170080"/>
            <a:ext cx="269640" cy="263520"/>
          </a:xfrm>
          <a:custGeom>
            <a:avLst/>
            <a:gdLst>
              <a:gd name="textAreaLeft" fmla="*/ 0 w 269640"/>
              <a:gd name="textAreaRight" fmla="*/ 270000 w 269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644"/>
          <p:cNvSpPr/>
          <p:nvPr/>
        </p:nvSpPr>
        <p:spPr>
          <a:xfrm>
            <a:off x="10391760" y="166068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hape 4646"/>
          <p:cNvSpPr/>
          <p:nvPr/>
        </p:nvSpPr>
        <p:spPr>
          <a:xfrm>
            <a:off x="9421920" y="1652760"/>
            <a:ext cx="295200" cy="2966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648"/>
          <p:cNvSpPr/>
          <p:nvPr/>
        </p:nvSpPr>
        <p:spPr>
          <a:xfrm>
            <a:off x="8429760" y="166068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Shape 4650"/>
          <p:cNvSpPr/>
          <p:nvPr/>
        </p:nvSpPr>
        <p:spPr>
          <a:xfrm>
            <a:off x="7504200" y="173196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652"/>
          <p:cNvSpPr/>
          <p:nvPr/>
        </p:nvSpPr>
        <p:spPr>
          <a:xfrm>
            <a:off x="6470640" y="166860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654"/>
          <p:cNvSpPr/>
          <p:nvPr/>
        </p:nvSpPr>
        <p:spPr>
          <a:xfrm>
            <a:off x="10391760" y="117936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656"/>
          <p:cNvSpPr/>
          <p:nvPr/>
        </p:nvSpPr>
        <p:spPr>
          <a:xfrm>
            <a:off x="9414000" y="116532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658"/>
          <p:cNvSpPr/>
          <p:nvPr/>
        </p:nvSpPr>
        <p:spPr>
          <a:xfrm>
            <a:off x="8488440" y="116532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660"/>
          <p:cNvSpPr/>
          <p:nvPr/>
        </p:nvSpPr>
        <p:spPr>
          <a:xfrm>
            <a:off x="7469280" y="1208160"/>
            <a:ext cx="284040" cy="1839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662"/>
          <p:cNvSpPr/>
          <p:nvPr/>
        </p:nvSpPr>
        <p:spPr>
          <a:xfrm>
            <a:off x="6470640" y="116532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664"/>
          <p:cNvSpPr/>
          <p:nvPr/>
        </p:nvSpPr>
        <p:spPr>
          <a:xfrm>
            <a:off x="5440320" y="5541840"/>
            <a:ext cx="297000" cy="227160"/>
          </a:xfrm>
          <a:custGeom>
            <a:avLst/>
            <a:gdLst>
              <a:gd name="textAreaLeft" fmla="*/ 0 w 297000"/>
              <a:gd name="textAreaRight" fmla="*/ 297360 w 297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666"/>
          <p:cNvSpPr/>
          <p:nvPr/>
        </p:nvSpPr>
        <p:spPr>
          <a:xfrm>
            <a:off x="4467240" y="5508720"/>
            <a:ext cx="268200" cy="304560"/>
          </a:xfrm>
          <a:custGeom>
            <a:avLst/>
            <a:gdLst>
              <a:gd name="textAreaLeft" fmla="*/ 0 w 268200"/>
              <a:gd name="textAreaRight" fmla="*/ 268560 w 268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668"/>
          <p:cNvSpPr/>
          <p:nvPr/>
        </p:nvSpPr>
        <p:spPr>
          <a:xfrm>
            <a:off x="3519360" y="5508720"/>
            <a:ext cx="204840" cy="30456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lnTo>
                  <a:pt x="0" y="41763"/>
                </a:ln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670"/>
          <p:cNvSpPr/>
          <p:nvPr/>
        </p:nvSpPr>
        <p:spPr>
          <a:xfrm>
            <a:off x="2484360" y="5508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672"/>
          <p:cNvSpPr/>
          <p:nvPr/>
        </p:nvSpPr>
        <p:spPr>
          <a:xfrm>
            <a:off x="1509840" y="5508720"/>
            <a:ext cx="295200" cy="3045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hape 4674"/>
          <p:cNvSpPr/>
          <p:nvPr/>
        </p:nvSpPr>
        <p:spPr>
          <a:xfrm>
            <a:off x="5427720" y="501804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676"/>
          <p:cNvSpPr/>
          <p:nvPr/>
        </p:nvSpPr>
        <p:spPr>
          <a:xfrm>
            <a:off x="4451400" y="5048280"/>
            <a:ext cx="295200" cy="241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678"/>
          <p:cNvSpPr/>
          <p:nvPr/>
        </p:nvSpPr>
        <p:spPr>
          <a:xfrm>
            <a:off x="3503520" y="5048280"/>
            <a:ext cx="227160" cy="241200"/>
          </a:xfrm>
          <a:custGeom>
            <a:avLst/>
            <a:gdLst>
              <a:gd name="textAreaLeft" fmla="*/ 0 w 227160"/>
              <a:gd name="textAreaRight" fmla="*/ 227520 w 227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lnTo>
                  <a:pt x="41186" y="77365"/>
                </a:ln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680"/>
          <p:cNvSpPr/>
          <p:nvPr/>
        </p:nvSpPr>
        <p:spPr>
          <a:xfrm>
            <a:off x="2527200" y="5018040"/>
            <a:ext cx="233640" cy="297000"/>
          </a:xfrm>
          <a:custGeom>
            <a:avLst/>
            <a:gdLst>
              <a:gd name="textAreaLeft" fmla="*/ 0 w 233640"/>
              <a:gd name="textAreaRight" fmla="*/ 234000 w 2336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682"/>
          <p:cNvSpPr/>
          <p:nvPr/>
        </p:nvSpPr>
        <p:spPr>
          <a:xfrm>
            <a:off x="1515960" y="5048280"/>
            <a:ext cx="284400" cy="241200"/>
          </a:xfrm>
          <a:custGeom>
            <a:avLst/>
            <a:gdLst>
              <a:gd name="textAreaLeft" fmla="*/ 0 w 284400"/>
              <a:gd name="textAreaRight" fmla="*/ 284760 w 2844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684"/>
          <p:cNvSpPr/>
          <p:nvPr/>
        </p:nvSpPr>
        <p:spPr>
          <a:xfrm>
            <a:off x="5427720" y="453564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686"/>
          <p:cNvSpPr/>
          <p:nvPr/>
        </p:nvSpPr>
        <p:spPr>
          <a:xfrm>
            <a:off x="4457880" y="4522680"/>
            <a:ext cx="284040" cy="30636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688"/>
          <p:cNvSpPr/>
          <p:nvPr/>
        </p:nvSpPr>
        <p:spPr>
          <a:xfrm>
            <a:off x="3503520" y="4522680"/>
            <a:ext cx="249480" cy="30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690"/>
          <p:cNvSpPr/>
          <p:nvPr/>
        </p:nvSpPr>
        <p:spPr>
          <a:xfrm>
            <a:off x="2484360" y="45226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692"/>
          <p:cNvSpPr/>
          <p:nvPr/>
        </p:nvSpPr>
        <p:spPr>
          <a:xfrm>
            <a:off x="1509840" y="452268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694"/>
          <p:cNvSpPr/>
          <p:nvPr/>
        </p:nvSpPr>
        <p:spPr>
          <a:xfrm>
            <a:off x="54831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696"/>
          <p:cNvSpPr/>
          <p:nvPr/>
        </p:nvSpPr>
        <p:spPr>
          <a:xfrm>
            <a:off x="4444920" y="3567240"/>
            <a:ext cx="311400" cy="249120"/>
          </a:xfrm>
          <a:custGeom>
            <a:avLst/>
            <a:gdLst>
              <a:gd name="textAreaLeft" fmla="*/ 0 w 311400"/>
              <a:gd name="textAreaRight" fmla="*/ 311760 w 3114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698"/>
          <p:cNvSpPr/>
          <p:nvPr/>
        </p:nvSpPr>
        <p:spPr>
          <a:xfrm>
            <a:off x="35035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700"/>
          <p:cNvSpPr/>
          <p:nvPr/>
        </p:nvSpPr>
        <p:spPr>
          <a:xfrm>
            <a:off x="250524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702"/>
          <p:cNvSpPr/>
          <p:nvPr/>
        </p:nvSpPr>
        <p:spPr>
          <a:xfrm>
            <a:off x="1501920" y="3552840"/>
            <a:ext cx="304560" cy="270000"/>
          </a:xfrm>
          <a:custGeom>
            <a:avLst/>
            <a:gdLst>
              <a:gd name="textAreaLeft" fmla="*/ 0 w 304560"/>
              <a:gd name="textAreaRight" fmla="*/ 304920 w 304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704"/>
          <p:cNvSpPr/>
          <p:nvPr/>
        </p:nvSpPr>
        <p:spPr>
          <a:xfrm>
            <a:off x="5450040" y="3067200"/>
            <a:ext cx="261720" cy="268200"/>
          </a:xfrm>
          <a:custGeom>
            <a:avLst/>
            <a:gdLst>
              <a:gd name="textAreaLeft" fmla="*/ 0 w 261720"/>
              <a:gd name="textAreaRight" fmla="*/ 262080 w 26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706"/>
          <p:cNvSpPr/>
          <p:nvPr/>
        </p:nvSpPr>
        <p:spPr>
          <a:xfrm>
            <a:off x="4492800" y="3067200"/>
            <a:ext cx="212400" cy="268200"/>
          </a:xfrm>
          <a:custGeom>
            <a:avLst/>
            <a:gdLst>
              <a:gd name="textAreaLeft" fmla="*/ 0 w 212400"/>
              <a:gd name="textAreaRight" fmla="*/ 212760 w 21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708"/>
          <p:cNvSpPr/>
          <p:nvPr/>
        </p:nvSpPr>
        <p:spPr>
          <a:xfrm>
            <a:off x="3473280" y="3087720"/>
            <a:ext cx="284400" cy="225360"/>
          </a:xfrm>
          <a:custGeom>
            <a:avLst/>
            <a:gdLst>
              <a:gd name="textAreaLeft" fmla="*/ 0 w 284400"/>
              <a:gd name="textAreaRight" fmla="*/ 284760 w 2844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710"/>
          <p:cNvSpPr/>
          <p:nvPr/>
        </p:nvSpPr>
        <p:spPr>
          <a:xfrm>
            <a:off x="251316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712"/>
          <p:cNvSpPr/>
          <p:nvPr/>
        </p:nvSpPr>
        <p:spPr>
          <a:xfrm>
            <a:off x="1544760" y="3051000"/>
            <a:ext cx="226800" cy="295560"/>
          </a:xfrm>
          <a:custGeom>
            <a:avLst/>
            <a:gdLst>
              <a:gd name="textAreaLeft" fmla="*/ 0 w 226800"/>
              <a:gd name="textAreaRight" fmla="*/ 227160 w 2268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714"/>
          <p:cNvSpPr/>
          <p:nvPr/>
        </p:nvSpPr>
        <p:spPr>
          <a:xfrm>
            <a:off x="5477040" y="2143080"/>
            <a:ext cx="204480" cy="304920"/>
          </a:xfrm>
          <a:custGeom>
            <a:avLst/>
            <a:gdLst>
              <a:gd name="textAreaLeft" fmla="*/ 0 w 204480"/>
              <a:gd name="textAreaRight" fmla="*/ 204840 w 204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lnTo>
                  <a:pt x="12616" y="50157"/>
                </a:ln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lnTo>
                  <a:pt x="111588" y="50157"/>
                </a:ln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716"/>
          <p:cNvSpPr/>
          <p:nvPr/>
        </p:nvSpPr>
        <p:spPr>
          <a:xfrm>
            <a:off x="4457880" y="214308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718"/>
          <p:cNvSpPr/>
          <p:nvPr/>
        </p:nvSpPr>
        <p:spPr>
          <a:xfrm>
            <a:off x="346860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720"/>
          <p:cNvSpPr/>
          <p:nvPr/>
        </p:nvSpPr>
        <p:spPr>
          <a:xfrm>
            <a:off x="248436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722"/>
          <p:cNvSpPr/>
          <p:nvPr/>
        </p:nvSpPr>
        <p:spPr>
          <a:xfrm>
            <a:off x="1565280" y="214308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724"/>
          <p:cNvSpPr/>
          <p:nvPr/>
        </p:nvSpPr>
        <p:spPr>
          <a:xfrm>
            <a:off x="5470560" y="1652760"/>
            <a:ext cx="210960" cy="306360"/>
          </a:xfrm>
          <a:custGeom>
            <a:avLst/>
            <a:gdLst>
              <a:gd name="textAreaLeft" fmla="*/ 0 w 210960"/>
              <a:gd name="textAreaRight" fmla="*/ 211320 w 210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726"/>
          <p:cNvSpPr/>
          <p:nvPr/>
        </p:nvSpPr>
        <p:spPr>
          <a:xfrm>
            <a:off x="4479840" y="1652760"/>
            <a:ext cx="241560" cy="306360"/>
          </a:xfrm>
          <a:custGeom>
            <a:avLst/>
            <a:gdLst>
              <a:gd name="textAreaLeft" fmla="*/ 0 w 241560"/>
              <a:gd name="textAreaRight" fmla="*/ 241920 w 241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728"/>
          <p:cNvSpPr/>
          <p:nvPr/>
        </p:nvSpPr>
        <p:spPr>
          <a:xfrm>
            <a:off x="3468600" y="1701720"/>
            <a:ext cx="304920" cy="20628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730"/>
          <p:cNvSpPr/>
          <p:nvPr/>
        </p:nvSpPr>
        <p:spPr>
          <a:xfrm>
            <a:off x="2563920" y="1652760"/>
            <a:ext cx="135000" cy="30636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lnTo>
                  <a:pt x="50391" y="58485"/>
                </a:ln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lnTo>
                  <a:pt x="69181" y="58485"/>
                </a:ln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732"/>
          <p:cNvSpPr/>
          <p:nvPr/>
        </p:nvSpPr>
        <p:spPr>
          <a:xfrm>
            <a:off x="1608120" y="1652760"/>
            <a:ext cx="100080" cy="30636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734"/>
          <p:cNvSpPr/>
          <p:nvPr/>
        </p:nvSpPr>
        <p:spPr>
          <a:xfrm>
            <a:off x="5450040" y="1179360"/>
            <a:ext cx="253800" cy="270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lnTo>
                  <a:pt x="116384" y="0"/>
                </a:ln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736"/>
          <p:cNvSpPr/>
          <p:nvPr/>
        </p:nvSpPr>
        <p:spPr>
          <a:xfrm>
            <a:off x="4479840" y="1165320"/>
            <a:ext cx="241560" cy="296640"/>
          </a:xfrm>
          <a:custGeom>
            <a:avLst/>
            <a:gdLst>
              <a:gd name="textAreaLeft" fmla="*/ 0 w 241560"/>
              <a:gd name="textAreaRight" fmla="*/ 241920 w 241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738"/>
          <p:cNvSpPr/>
          <p:nvPr/>
        </p:nvSpPr>
        <p:spPr>
          <a:xfrm>
            <a:off x="346860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740"/>
          <p:cNvSpPr/>
          <p:nvPr/>
        </p:nvSpPr>
        <p:spPr>
          <a:xfrm>
            <a:off x="248436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742"/>
          <p:cNvSpPr/>
          <p:nvPr/>
        </p:nvSpPr>
        <p:spPr>
          <a:xfrm>
            <a:off x="1544760" y="1165320"/>
            <a:ext cx="226800" cy="296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8T13:02:39Z</dcterms:created>
  <dc:creator>user</dc:creator>
  <dc:description/>
  <dc:language>en-US</dc:language>
  <cp:lastModifiedBy>Harist</cp:lastModifiedBy>
  <dcterms:modified xsi:type="dcterms:W3CDTF">2023-03-12T08:57:14Z</dcterms:modified>
  <cp:revision>27</cp:revision>
  <dc:subject/>
  <dc:title>PowerPoint Presentation</dc:title>
</cp:coreProperties>
</file>